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8F6-65C8-4711-A07E-A5B2314E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93C-83DC-4426-8500-29B88F5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159-D034-4D3F-873A-E85A4E57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C90-E76A-48DA-8557-A0FE4296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EFB-B93B-4397-B378-AD121CE9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A38-296A-4C0D-A6E6-09396F98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7DF-90E3-487E-8A99-D2359A77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F5D-63B1-4B5C-9E0E-E8E9946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1C3-B748-4F2C-843C-9DC9D1DA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0C7-81F8-4E8B-A68A-B18AC31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C3B-6A9A-4E5C-AE52-300556AE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E20-9F54-4C1C-8FEB-D2EF549C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FBFC-0D6A-44F1-8198-CFE7B43EA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4600"/>
            </a:b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Behind every invention is a good idea.  Everybody has good ideas.  How do inventors turn good ideas into inventions?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day we will read about some farmers.  They have a problem with mice in their fields.  One farmer has a smart idea for getting rid of the mice.  What do you think is a smart ide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ice eat corn, so farmers build mousetraps.  Cats are the best mousetraps though!  What else can cats d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8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day we will read about robots at home.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ch robot is a unique contraption because it does different things to help us around the house.  What kind of robot would you want in your hou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2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is week we read about how to turn ideas into inventions.  Pearl and Wagner, the farmers, and Annie all constructed unique contraptions.  How did they do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1-01T00:31:03Z</dcterms:modified>
  <cp:revision>44</cp:revision>
  <dc:subject/>
  <dc:title> Morning Warm- Up! The cat needs some water.  The dog wants a bone.  That bird lives in a birdhouse where she feels quite at home.  How do people take care of pets?</dc:title>
</cp:coreProperties>
</file>